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0CC-33C4-4C66-97E5-C5C621D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CF2-FC78-47D4-AB25-E5EE038F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173-C526-4A40-A135-FF0E6D39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470-36F1-44C2-80D8-78C8CC13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438-0A32-4E9E-A3A8-155BF29E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BE5-685D-42CF-BEF8-53984284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7FE-A3A2-42E2-B084-27F3E667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87C-B3EA-41FD-BCA6-EB957526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259-8F09-4138-9CA6-90591562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7A3-97CE-42EC-82AF-DDD651B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6FB-F4C1-4E3F-82FD-10B94F1C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49E-99C6-45A8-BA76-118D5DCD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E5AF-3EC0-4C8E-B1DA-E315018D1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 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 EPI Issu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70866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7315200" cy="5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67053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143000" y="4343400"/>
            <a:ext cx="6553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4495680" cy="482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723924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1295280"/>
            <a:ext cx="541044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371600" y="388620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23924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5615280" cy="480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39152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371600" y="10666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43000" y="2590920"/>
            <a:ext cx="67057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1271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7467840" cy="155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5800" y="4724280"/>
            <a:ext cx="8001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0720" y="1219320"/>
            <a:ext cx="739116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5800" y="426708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6:17Z</dcterms:modified>
  <cp:revision>102</cp:revision>
  <dc:subject/>
  <dc:title>The Art in the State of the Art</dc:title>
</cp:coreProperties>
</file>